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ACF-E74F-43E0-8F2B-F24D30C3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27C-EE42-45E8-AF7C-A243F21B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44D-4A13-44FD-8B9F-593F801D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B25-860C-4502-8129-4228B107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E05E-9F2D-4CA0-A5B7-5D856082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60D6-E331-4C7E-8068-C609E792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DCD8-746B-4545-B40F-22335C7B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D32C-8257-4E8A-9E21-55F96CD5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1A48-B285-4E28-AF8A-98B6A6DF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1B55-F9C9-4218-8B1F-450E9679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B1C3-ED9B-46AF-8D91-A7C0D4A0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56A-0FFE-4C33-B7BA-0AF70BE7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5249-B639-4F45-B00B-B15C8316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3555-65F2-4E07-A0E9-899E93AF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BDC7-67ED-46BD-AE6A-1399D230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D918-EBEA-4BD4-AFD5-554BF731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9C14-86E8-4FB5-AD0C-4A27AC8A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FDB-1655-46E7-B622-0A2BD129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004-3E58-4698-9D9B-74F7589D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928-E5F2-4FF4-AA13-EC4012AA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D06-3F45-4A98-8E64-A486675E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DB0-CC5F-4652-B328-7B50035A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487-2F98-4A6E-AA8C-A2EFE665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7FB-C962-4131-8096-3D51A302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C5BE-B080-44B6-8E9C-743C8A5FA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C4EE-283F-4B06-8610-BD3A6F878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i Vacaciones en Espan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Nelle P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Uno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4538520" cy="472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ola mama y papa!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Hoy fui a mi hotel. el clima es fantástico! Yo me quedo en el hotel por 5 días. Cuando yo llegó a l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hotel yo poner mi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equipaje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lejo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. Yo se comida en la hotel. Yo no 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ir a nad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en la piscina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Sinceramente, Nell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608360" cy="237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495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do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ola! Hoy fui a la playa. Fue </a:t>
            </a:r>
            <a:r>
              <a:rPr b="0" lang="es-ES" sz="2400" spc="-1" strike="noStrike">
                <a:solidFill>
                  <a:srgbClr val="99cc00"/>
                </a:solidFill>
                <a:latin typeface="Arial"/>
              </a:rPr>
              <a:t>impresionante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! La tiempo fue </a:t>
            </a:r>
            <a:r>
              <a:rPr b="0" lang="es-ES" sz="2400" spc="-1" strike="noStrike">
                <a:solidFill>
                  <a:srgbClr val="99cc00"/>
                </a:solidFill>
                <a:latin typeface="Arial"/>
              </a:rPr>
              <a:t>soleado y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 perfecta </a:t>
            </a:r>
            <a:r>
              <a:rPr b="0" lang="es-ES" sz="2400" spc="-1" strike="noStrike">
                <a:solidFill>
                  <a:srgbClr val="99cc00"/>
                </a:solidFill>
                <a:latin typeface="Arial"/>
              </a:rPr>
              <a:t>temperatura. Yo fui practicar la tabla y nade. Luego yo fui de nuevo a hotel y so algunos comida. Yo no saltar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99cc00"/>
                </a:solidFill>
                <a:latin typeface="Arial"/>
              </a:rPr>
              <a:t>el acantilado porque yo soy miedo de alturas.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Sinceramente </a:t>
            </a:r>
            <a:r>
              <a:rPr b="0" lang="es-ES" sz="2400" spc="-1" strike="noStrike">
                <a:solidFill>
                  <a:srgbClr val="99cc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ell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519440" y="1828800"/>
            <a:ext cx="4284720" cy="4572000"/>
            <a:chOff x="4519440" y="1828800"/>
            <a:chExt cx="4284720" cy="45720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4519440" y="1828800"/>
              <a:ext cx="42847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4519440" y="1828800"/>
              <a:ext cx="4284720" cy="457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tr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Hola! Hoy yo fui para ver de la ciudad, Madrid. Es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un hermoso! La tiempo fui nublado y lluvioso. Yo tomó algunas fotos de Madrid. Aunque llovió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la ciudad fui hermoso!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o no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hacer compras. Sinceramente, Ne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16440" y="0"/>
            <a:ext cx="3427560" cy="3657600"/>
            <a:chOff x="5716440" y="0"/>
            <a:chExt cx="3427560" cy="36576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16440" y="0"/>
              <a:ext cx="342756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16440" y="0"/>
              <a:ext cx="342756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1990440" cy="199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62560" y="3657600"/>
            <a:ext cx="37814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</a:t>
            </a: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uat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a! Hoy y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d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mi hot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rque u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rm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 fui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gimnas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pués 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yo fui al hotel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ri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iscina y n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urante una ho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Yo no ir a la hotel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taurante.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Sinceramente, Nel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724280" y="152280"/>
            <a:ext cx="3213360" cy="3429000"/>
            <a:chOff x="4724280" y="152280"/>
            <a:chExt cx="3213360" cy="342900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724280" y="152280"/>
              <a:ext cx="321336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4724280" y="152280"/>
              <a:ext cx="321336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36957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cinco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a! Hoy yo lleno hast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a cabez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sa. Era tan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uy diverti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spana. La ciudad, la playa, y la hotel. Y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mente quiere volver el año que viene. Nos vemos en cas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ll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0" y="0"/>
            <a:ext cx="3429000" cy="1995480"/>
            <a:chOff x="4572000" y="0"/>
            <a:chExt cx="3429000" cy="19954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342900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4572000" y="0"/>
              <a:ext cx="3429000" cy="19954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645160" y="1981080"/>
            <a:ext cx="3498840" cy="3733920"/>
            <a:chOff x="5645160" y="1981080"/>
            <a:chExt cx="3498840" cy="373392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5645160" y="1981080"/>
              <a:ext cx="349884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 txBox="1"/>
            <p:nvPr/>
          </p:nvSpPr>
          <p:spPr>
            <a:xfrm>
              <a:off x="5645160" y="1981080"/>
              <a:ext cx="3498840" cy="373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648320" y="4305240"/>
            <a:ext cx="42861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6:28Z</dcterms:created>
  <dc:creator>plucknel</dc:creator>
  <dc:description/>
  <dc:language>en-US</dc:language>
  <cp:lastModifiedBy>plucknel</cp:lastModifiedBy>
  <dcterms:modified xsi:type="dcterms:W3CDTF">2011-11-30T16:51:21Z</dcterms:modified>
  <cp:revision>6</cp:revision>
  <dc:subject/>
  <dc:title>Mi Vacaciones en Espana</dc:title>
</cp:coreProperties>
</file>